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7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0F26-6636-4DCB-B986-3E77BF974E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F28D-8081-4D7F-9F52-6D4EC30DF1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3A2A-FA6F-437D-BF44-6F111B27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FD5D-0F3C-4A8D-8004-768C695D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16C7-0374-4697-8C69-4D1BB1D6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AC04-847F-467C-9CC7-C03D9CA8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E156-C35D-492A-9C79-02DAFA38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7D9D-FD19-4F81-ACEB-3E287CD6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1EA0-5666-441C-A8D9-41ED3667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3488-3BBB-4C3F-853A-FABC0563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4B01-6FEB-4AF9-BE8C-5171C608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5243-6FD5-4CE8-A54D-236D7BE9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20CB-8347-41F4-A4A5-5DEE94FF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0CCE-3460-41B7-AF06-E25200EE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0ADF-54D3-4CDB-88B0-760EF7EA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BCF2-ADAA-4C37-96DE-C347E277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A1C7-4758-40CA-B74A-98716F07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6D18-897F-4762-AD63-19D492C8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1D2D-97AD-445B-BF4B-D6A49F18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FD17-8ABF-499F-8F6E-F34AA9EF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DEA2-135E-48D6-BC58-9FE38F62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866C-0C40-40A0-9B90-32A0EC95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0CF3-C83D-4D25-8C7D-281C210B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8216-C6C5-4536-90B3-30FC6865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2D9C-2774-44F0-B3B9-703BDD3E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4439-528E-4AE8-B4CC-1B683688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6800-BD09-4BB6-A11A-C3EB32128F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FFE4-A77E-4461-BA7C-1665DF2D07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uchportal.ru/load/143-1-0-4680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14280" y="1357200"/>
            <a:ext cx="67867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 хозяйств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рок обществознания, 6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1716480" y="578520"/>
            <a:ext cx="727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всегда будет основой об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норе Бальз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Дата 3"/>
          <p:cNvSpPr/>
          <p:nvPr/>
        </p:nvSpPr>
        <p:spPr>
          <a:xfrm>
            <a:off x="539640" y="5589720"/>
            <a:ext cx="2737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D290-6C26-48CF-A79A-E629875F077C}" type="datetime"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07.26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3492360" y="4869000"/>
            <a:ext cx="53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Лизунина Эльвира Хамзо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обществ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Рудницкая СОШ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ско-Устьинского района 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юджет семь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а всех доходов и расходов за определенный период времени (месяц или го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1116000" y="189000"/>
            <a:ext cx="676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447840" y="2579760"/>
            <a:ext cx="376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0" y="2421000"/>
            <a:ext cx="9612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ы = доходам – бюджет сбалансирован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ы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ходов - бюджет имеет дефиц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ы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ходов – бюджет избыточ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6"/>
          <p:cNvSpPr/>
          <p:nvPr/>
        </p:nvSpPr>
        <p:spPr>
          <a:xfrm>
            <a:off x="1945800" y="260280"/>
            <a:ext cx="576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сему есть ме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F:\дом хоз\134.jpg"/>
          <p:cNvPicPr/>
          <p:nvPr/>
        </p:nvPicPr>
        <p:blipFill>
          <a:blip r:embed="rId2"/>
          <a:stretch/>
        </p:blipFill>
        <p:spPr>
          <a:xfrm>
            <a:off x="0" y="333360"/>
            <a:ext cx="2317680" cy="3062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F:\дом хоз\5765_1.jpg"/>
          <p:cNvPicPr/>
          <p:nvPr/>
        </p:nvPicPr>
        <p:blipFill>
          <a:blip r:embed="rId3"/>
          <a:stretch/>
        </p:blipFill>
        <p:spPr>
          <a:xfrm>
            <a:off x="3059280" y="692280"/>
            <a:ext cx="2643120" cy="2643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F:\дом хоз\15289_big.jpg"/>
          <p:cNvPicPr/>
          <p:nvPr/>
        </p:nvPicPr>
        <p:blipFill>
          <a:blip r:embed="rId4"/>
          <a:stretch/>
        </p:blipFill>
        <p:spPr>
          <a:xfrm>
            <a:off x="6246720" y="765000"/>
            <a:ext cx="2897280" cy="2592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F:\дом хоз\091108_092603_280.jpg"/>
          <p:cNvPicPr/>
          <p:nvPr/>
        </p:nvPicPr>
        <p:blipFill>
          <a:blip r:embed="rId5"/>
          <a:stretch/>
        </p:blipFill>
        <p:spPr>
          <a:xfrm>
            <a:off x="0" y="4000680"/>
            <a:ext cx="2378160" cy="2468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F:\дом хоз\bigpreview.jpeg"/>
          <p:cNvPicPr/>
          <p:nvPr/>
        </p:nvPicPr>
        <p:blipFill>
          <a:blip r:embed="rId6"/>
          <a:stretch/>
        </p:blipFill>
        <p:spPr>
          <a:xfrm>
            <a:off x="6156360" y="5013360"/>
            <a:ext cx="2682720" cy="1677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F:\дом хоз\i.jpeg"/>
          <p:cNvPicPr/>
          <p:nvPr/>
        </p:nvPicPr>
        <p:blipFill>
          <a:blip r:embed="rId7"/>
          <a:stretch/>
        </p:blipFill>
        <p:spPr>
          <a:xfrm>
            <a:off x="6156360" y="3500280"/>
            <a:ext cx="1854000" cy="1384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F:\дом хоз\книга 1.jpg"/>
          <p:cNvPicPr/>
          <p:nvPr/>
        </p:nvPicPr>
        <p:blipFill>
          <a:blip r:embed="rId8"/>
          <a:stretch/>
        </p:blipFill>
        <p:spPr>
          <a:xfrm>
            <a:off x="2714760" y="3367080"/>
            <a:ext cx="2428920" cy="34909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9"/>
          <p:cNvSpPr/>
          <p:nvPr/>
        </p:nvSpPr>
        <p:spPr>
          <a:xfrm>
            <a:off x="1332000" y="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бирай на вк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0" y="1005480"/>
            <a:ext cx="914400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www.uchportal.ru/load/143-1-0-46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http://cs10854.vk.com/u6286285/-14/x_5c0a9cdb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http://library.kr.ua/bookexibit/images/134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http://images.yandex.ru/?lr=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http://eetel.ru/vertu/vertu-constellation-pure-chocolate_51036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http://www.knigisosklada.ru/images/books/623/big/623844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E:\x_5c0a9cd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5"/>
          <p:cNvSpPr/>
          <p:nvPr/>
        </p:nvSpPr>
        <p:spPr>
          <a:xfrm>
            <a:off x="4572000" y="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м хозяина красит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хозяин д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кий д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ино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итс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Calibri"/>
              </a:rPr>
              <a:t>СЕМЬЯ И ДОМАШНЕЕ ХОЗЯЙСТВО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8400" y="114264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мья объединена не только кровно-родственными, брачными связями, но 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озяйственными отношени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емья организу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ы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ашнее пит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эльвира\Documents\фото видео с ф\P1010002.JPG"/>
          <p:cNvPicPr/>
          <p:nvPr/>
        </p:nvPicPr>
        <p:blipFill>
          <a:blip r:embed="rId1"/>
          <a:stretch/>
        </p:blipFill>
        <p:spPr>
          <a:xfrm>
            <a:off x="4284720" y="2852640"/>
            <a:ext cx="4859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Calibri"/>
              </a:rPr>
              <a:t>СЕМЬЯ И ДОМАШНЕЕ ХОЗЯЙСТВО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ья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рганизует приобрет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оваров и услу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спределяет время 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омашний труд и отды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f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2C4A-FECE-4744-A5D5-3D1A1964CB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Теремок (сюжет).wmv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095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2521080" cy="2786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3"/>
          <a:stretch/>
        </p:blipFill>
        <p:spPr>
          <a:xfrm>
            <a:off x="6224760" y="0"/>
            <a:ext cx="2919240" cy="2471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4"/>
          <a:stretch/>
        </p:blipFill>
        <p:spPr>
          <a:xfrm>
            <a:off x="285840" y="4143240"/>
            <a:ext cx="2476440" cy="2390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5"/>
          <a:stretch/>
        </p:blipFill>
        <p:spPr>
          <a:xfrm>
            <a:off x="6804000" y="4149720"/>
            <a:ext cx="2124000" cy="24973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1692360" y="6093000"/>
            <a:ext cx="56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филмы  можно найти на с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amult.org.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Часть 2.avi" descr=""/>
          <p:cNvPicPr/>
          <p:nvPr/>
        </p:nvPicPr>
        <p:blipFill>
          <a:blip r:embed="rId2"/>
          <a:stretch/>
        </p:blipFill>
        <p:spPr>
          <a:xfrm>
            <a:off x="5500800" y="214200"/>
            <a:ext cx="3643200" cy="291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3"/>
          <a:stretch/>
        </p:blipFill>
        <p:spPr>
          <a:xfrm>
            <a:off x="285840" y="285840"/>
            <a:ext cx="2095560" cy="2705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4"/>
          <a:stretch/>
        </p:blipFill>
        <p:spPr>
          <a:xfrm>
            <a:off x="4214880" y="357192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5"/>
          <a:stretch/>
        </p:blipFill>
        <p:spPr>
          <a:xfrm>
            <a:off x="857160" y="3857760"/>
            <a:ext cx="2862360" cy="2786040"/>
          </a:xfrm>
          <a:prstGeom prst="rect">
            <a:avLst/>
          </a:prstGeom>
          <a:ln w="0">
            <a:noFill/>
          </a:ln>
        </p:spPr>
      </p:pic>
      <p:pic>
        <p:nvPicPr>
          <p:cNvPr id="111" name="Часть 1.avi" descr=""/>
          <p:cNvPicPr/>
          <p:nvPr/>
        </p:nvPicPr>
        <p:blipFill>
          <a:blip r:embed="rId6"/>
          <a:stretch/>
        </p:blipFill>
        <p:spPr>
          <a:xfrm>
            <a:off x="2928960" y="1285920"/>
            <a:ext cx="2946240" cy="2357280"/>
          </a:xfrm>
          <a:prstGeom prst="rect">
            <a:avLst/>
          </a:prstGeom>
          <a:ln w="0">
            <a:noFill/>
          </a:ln>
        </p:spPr>
      </p:pic>
      <p:sp>
        <p:nvSpPr>
          <p:cNvPr id="112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F622-F447-46E6-8C6B-EC309C07BE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ДОМАШНЕЕ ХОЗЯЙ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ключает все имеющиеся ресурсы семьи, и прежде всего собственнос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2349360"/>
            <a:ext cx="3865680" cy="2899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289440" y="530064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варт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770920" y="630864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ча, маш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2"/>
          <a:srcRect l="10600" t="0" r="3999" b="7069"/>
          <a:stretch/>
        </p:blipFill>
        <p:spPr>
          <a:xfrm>
            <a:off x="5076720" y="2133720"/>
            <a:ext cx="4067280" cy="273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3"/>
          <a:stretch/>
        </p:blipFill>
        <p:spPr>
          <a:xfrm>
            <a:off x="2340000" y="3645000"/>
            <a:ext cx="3624120" cy="2717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0"/>
          <p:cNvSpPr/>
          <p:nvPr/>
        </p:nvSpPr>
        <p:spPr>
          <a:xfrm>
            <a:off x="6520320" y="49608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довый учас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ДОМАШНЕЕ ХОЗЯЙ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9680" y="114264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ключает все имеющиеся ресурсы семьи, и прежде всего собственнос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10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3284640" cy="2543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1"/>
          <p:cNvSpPr/>
          <p:nvPr/>
        </p:nvSpPr>
        <p:spPr>
          <a:xfrm>
            <a:off x="769320" y="488952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б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2" descr=""/>
          <p:cNvPicPr/>
          <p:nvPr/>
        </p:nvPicPr>
        <p:blipFill>
          <a:blip r:embed="rId3"/>
          <a:stretch/>
        </p:blipFill>
        <p:spPr>
          <a:xfrm>
            <a:off x="2627280" y="3933720"/>
            <a:ext cx="3389400" cy="27259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3"/>
          <p:cNvSpPr/>
          <p:nvPr/>
        </p:nvSpPr>
        <p:spPr>
          <a:xfrm>
            <a:off x="3566520" y="34480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еж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4" descr=""/>
          <p:cNvPicPr/>
          <p:nvPr/>
        </p:nvPicPr>
        <p:blipFill>
          <a:blip r:embed="rId4"/>
          <a:stretch/>
        </p:blipFill>
        <p:spPr>
          <a:xfrm>
            <a:off x="5832360" y="1916280"/>
            <a:ext cx="3311640" cy="22921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>
            <a:off x="4126320" y="2349360"/>
            <a:ext cx="16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агоц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6" descr=""/>
          <p:cNvPicPr/>
          <p:nvPr/>
        </p:nvPicPr>
        <p:blipFill>
          <a:blip r:embed="rId5"/>
          <a:stretch/>
        </p:blipFill>
        <p:spPr>
          <a:xfrm>
            <a:off x="6402240" y="4292640"/>
            <a:ext cx="2741760" cy="20556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7"/>
          <p:cNvSpPr/>
          <p:nvPr/>
        </p:nvSpPr>
        <p:spPr>
          <a:xfrm>
            <a:off x="6519600" y="63295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ь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ЕМЕЙНЫЙ БЮДЖ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989000"/>
          <a:ext cx="8893080" cy="2773440"/>
        </p:xfrm>
        <a:graphic>
          <a:graphicData uri="http://schemas.openxmlformats.org/drawingml/2006/table">
            <a:tbl>
              <a:tblPr/>
              <a:tblGrid>
                <a:gridCol w="5580000"/>
                <a:gridCol w="3313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аботная плата членов семь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т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предпринимательской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еж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собственности (сдача в аренду квартиры, земельного учас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ртпла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нтные выплаты по денежным вклад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пор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46c0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0" y="4869000"/>
          <a:ext cx="8893080" cy="1401480"/>
        </p:xfrm>
        <a:graphic>
          <a:graphicData uri="http://schemas.openxmlformats.org/drawingml/2006/table">
            <a:tbl>
              <a:tblPr/>
              <a:tblGrid>
                <a:gridCol w="5580000"/>
                <a:gridCol w="33130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сии, стипендии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упка дорогостоящих вещей (бытовой техники, транспорта, путёво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обия на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50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06:46:35Z</dcterms:created>
  <dc:creator>эльвира</dc:creator>
  <dc:description/>
  <dc:language>en-US</dc:language>
  <cp:lastModifiedBy>эльвира</cp:lastModifiedBy>
  <dcterms:modified xsi:type="dcterms:W3CDTF">2012-03-26T09:02:16Z</dcterms:modified>
  <cp:revision>36</cp:revision>
  <dc:subject/>
  <dc:title>Слайд 1</dc:title>
</cp:coreProperties>
</file>